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806-28E0-4E45-8B14-6AD27541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41F-72D0-45A0-9C91-11109342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D84-DD9D-4292-85D4-9A7E7F4E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C2E-5337-44DF-8511-BD3E73FD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7483-5142-472A-9940-76411EE0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9107-AF18-4553-9DA8-7EB2A740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C397-710F-49D9-BAF8-79B542B5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4260-CC70-4455-81AF-FFDAB346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F081-FBE8-449E-AA9C-E686DC88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36B4-2E4C-4420-BA77-6692D997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39F8-25C2-45E9-9924-B172E72A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426-BD65-41BB-A71E-1C86CE42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40EF-0954-4EC3-A54B-00544BD5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DEC2-8181-4EA4-A487-ADB3209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12CE-3BD1-4108-B960-DE204E67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0EE4-997D-46F0-AC31-7C174524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7DED-8B05-4568-8FD2-768A3443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164E-971F-43B2-AF40-DFD840FE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A89A-E54C-402F-919B-9EDDB35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20A-1972-4A8A-A4F1-75E5FA99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91B8-AEB9-4530-8155-9B3B0F3D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6312-DADE-4934-BC80-F789EFCB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655-67B0-4FCB-9EE7-0E63C39F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C92A-75B8-4FD9-89AD-E35E2B1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3391-F1B6-447E-9356-206503342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B949-0502-483B-81D0-9F5EEDDDE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3152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Midnight Ride of Paul Rev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3" descr="THE MIDNIGHT RIDE of PAUL REVERE"/>
          <p:cNvPicPr/>
          <p:nvPr/>
        </p:nvPicPr>
        <p:blipFill>
          <a:blip r:embed="rId1"/>
          <a:stretch/>
        </p:blipFill>
        <p:spPr>
          <a:xfrm>
            <a:off x="4952880" y="152280"/>
            <a:ext cx="38484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oom where we had to sit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omb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ery 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loom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819520" y="441972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oy had dreamed of having his own trus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te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d-tempe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igh-spirited ho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438280" y="4343400"/>
            <a:ext cx="39625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one knew what 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ould be after he left ho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sti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8120" y="3886200"/>
            <a:ext cx="2438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cientist couldn’t wait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gnif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is specimen under a microscop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ke larg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ix up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286000" y="3657600"/>
            <a:ext cx="4038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aptain kept hoping to see at least a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limm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ggy spo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m ligh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200400" y="4419720"/>
            <a:ext cx="2743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m needed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earl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ader to get them throug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ol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etiti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276720" y="3657600"/>
            <a:ext cx="2743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m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g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very time we visit her sister’s hou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vanish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00400" y="4419720"/>
            <a:ext cx="2743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295280"/>
            <a:ext cx="312408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04920" y="2286000"/>
            <a:ext cx="35049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609480" y="3429000"/>
            <a:ext cx="350532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04920" y="4495680"/>
            <a:ext cx="33526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876920" y="1143000"/>
            <a:ext cx="28191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419720" y="2971800"/>
            <a:ext cx="37335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029200" y="4419720"/>
            <a:ext cx="312408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200040" y="13716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horse, especially a riding ho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886200" y="380880"/>
            <a:ext cx="31240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" descr="MPj04065090000[1]"/>
          <p:cNvPicPr/>
          <p:nvPr/>
        </p:nvPicPr>
        <p:blipFill>
          <a:blip r:embed="rId1"/>
          <a:stretch/>
        </p:blipFill>
        <p:spPr>
          <a:xfrm>
            <a:off x="3809880" y="40384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80920" y="14479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tays on; goes slowly, as if unwilling to leav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657600" y="380880"/>
            <a:ext cx="38098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MCj03590330000[1]"/>
          <p:cNvPicPr/>
          <p:nvPr/>
        </p:nvPicPr>
        <p:blipFill>
          <a:blip r:embed="rId1"/>
          <a:stretch/>
        </p:blipFill>
        <p:spPr>
          <a:xfrm>
            <a:off x="4191120" y="4267080"/>
            <a:ext cx="2133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hat becomes of someone or something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962520" y="457200"/>
            <a:ext cx="39621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MCj02404190000[1]"/>
          <p:cNvPicPr/>
          <p:nvPr/>
        </p:nvPicPr>
        <p:blipFill>
          <a:blip r:embed="rId1"/>
          <a:stretch/>
        </p:blipFill>
        <p:spPr>
          <a:xfrm>
            <a:off x="2133720" y="5257800"/>
            <a:ext cx="1850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faint, unsteady ligh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962520" y="304920"/>
            <a:ext cx="39621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7" descr="MPj04386850000[1]"/>
          <p:cNvPicPr/>
          <p:nvPr/>
        </p:nvPicPr>
        <p:blipFill>
          <a:blip r:embed="rId1"/>
          <a:stretch/>
        </p:blipFill>
        <p:spPr>
          <a:xfrm>
            <a:off x="228600" y="152280"/>
            <a:ext cx="3311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aving deep shadows; dark; gloom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809880" y="533520"/>
            <a:ext cx="38102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5" descr="MPj04022010000[1]"/>
          <p:cNvPicPr/>
          <p:nvPr/>
        </p:nvPicPr>
        <p:blipFill>
          <a:blip r:embed="rId1"/>
          <a:stretch/>
        </p:blipFill>
        <p:spPr>
          <a:xfrm>
            <a:off x="0" y="762120"/>
            <a:ext cx="34113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used something to look larger than it actually i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657600" y="457200"/>
            <a:ext cx="45720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10" descr="MPj0439343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ithout fear; afraid of nothin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191120" y="3808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80880" y="228600"/>
            <a:ext cx="2895840" cy="4800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rl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limm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gnifi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MCj03588130000[1]"/>
          <p:cNvPicPr/>
          <p:nvPr/>
        </p:nvPicPr>
        <p:blipFill>
          <a:blip r:embed="rId1"/>
          <a:stretch/>
        </p:blipFill>
        <p:spPr>
          <a:xfrm>
            <a:off x="2971800" y="4724280"/>
            <a:ext cx="154476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ynne M. Gorman</cp:lastModifiedBy>
  <dcterms:modified xsi:type="dcterms:W3CDTF">2012-02-27T00:24:35Z</dcterms:modified>
  <cp:revision>59</cp:revision>
  <dc:subject/>
  <dc:title>Frindle Vocabulary Words</dc:title>
</cp:coreProperties>
</file>